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51A-3CBE-476F-A4FB-80AD7EC2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A28-E0E9-4D08-AAEB-D5D7C43B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E54-E650-494B-967D-A36AF1B5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FAB-7842-40B5-BEA4-5D7EF022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899-E3C9-4B66-BC50-EB08BA2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ED6-AFFF-4A4D-A81B-251C3966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DB5-3CB2-4347-BD0D-9B2E35F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B9C-93D6-4382-AA8C-0017C595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3BB-7820-4402-899C-C83C787A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DFD-8CAF-4141-8DD5-94218ABF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8CD-5F84-46C7-8D40-D7BD1178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432-1159-4F6A-B971-6F11821A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6EE6-2951-4451-BF63-505DB3C4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hyperlink" Target="file:///tmp/home/.config/libreoffice/4/user/gallery/Breaking%20Glass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- pos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0960" y="1932120"/>
          <a:ext cx="7772400" cy="48276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8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p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rning targ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te bias &amp; distor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ing conven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AutoShape 39"/>
          <p:cNvSpPr/>
          <p:nvPr/>
        </p:nvSpPr>
        <p:spPr>
          <a:xfrm>
            <a:off x="4027320" y="2711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40"/>
          <p:cNvSpPr/>
          <p:nvPr/>
        </p:nvSpPr>
        <p:spPr>
          <a:xfrm>
            <a:off x="4038480" y="32767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f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1">
            <a:hlinkClick r:id="rId1"/>
          </p:cNvPr>
          <p:cNvSpPr/>
          <p:nvPr/>
        </p:nvSpPr>
        <p:spPr>
          <a:xfrm>
            <a:off x="4005360" y="3863880"/>
            <a:ext cx="990360" cy="38124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78" h="21600">
                <a:moveTo>
                  <a:pt x="0" y="0"/>
                </a:moveTo>
                <a:lnTo>
                  <a:pt x="56078" y="0"/>
                </a:lnTo>
                <a:lnTo>
                  <a:pt x="56078" y="21600"/>
                </a:lnTo>
                <a:lnTo>
                  <a:pt x="0" y="21600"/>
                </a:lnTo>
                <a:close/>
              </a:path>
              <a:path fill="lightenLess" w="56078" h="21600">
                <a:moveTo>
                  <a:pt x="0" y="0"/>
                </a:moveTo>
                <a:lnTo>
                  <a:pt x="56078" y="0"/>
                </a:lnTo>
                <a:lnTo>
                  <a:pt x="54679" y="1400"/>
                </a:lnTo>
                <a:lnTo>
                  <a:pt x="1400" y="1400"/>
                </a:lnTo>
                <a:close/>
              </a:path>
              <a:path fill="darken" w="56078" h="21600">
                <a:moveTo>
                  <a:pt x="56078" y="0"/>
                </a:moveTo>
                <a:lnTo>
                  <a:pt x="56078" y="21600"/>
                </a:lnTo>
                <a:lnTo>
                  <a:pt x="54679" y="20200"/>
                </a:lnTo>
                <a:lnTo>
                  <a:pt x="54679" y="1400"/>
                </a:lnTo>
                <a:close/>
              </a:path>
              <a:path fill="darkenLess" w="56078" h="21600">
                <a:moveTo>
                  <a:pt x="56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79" y="20200"/>
                </a:lnTo>
                <a:close/>
              </a:path>
              <a:path fill="lighten" w="56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4b4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2"/>
          <p:cNvSpPr/>
          <p:nvPr/>
        </p:nvSpPr>
        <p:spPr>
          <a:xfrm>
            <a:off x="4038480" y="44197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5f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3"/>
          <p:cNvSpPr/>
          <p:nvPr/>
        </p:nvSpPr>
        <p:spPr>
          <a:xfrm>
            <a:off x="4038480" y="52578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e9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4">
            <a:hlinkClick r:id="rId2"/>
          </p:cNvPr>
          <p:cNvSpPr/>
          <p:nvPr/>
        </p:nvSpPr>
        <p:spPr>
          <a:xfrm>
            <a:off x="40384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2" descr=""/>
          <p:cNvPicPr/>
          <p:nvPr/>
        </p:nvPicPr>
        <p:blipFill>
          <a:blip r:embed="rId3"/>
          <a:stretch/>
        </p:blipFill>
        <p:spPr>
          <a:xfrm>
            <a:off x="6770520" y="2655720"/>
            <a:ext cx="522360" cy="46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8" descr=""/>
          <p:cNvPicPr/>
          <p:nvPr/>
        </p:nvPicPr>
        <p:blipFill>
          <a:blip r:embed="rId4"/>
          <a:stretch/>
        </p:blipFill>
        <p:spPr>
          <a:xfrm>
            <a:off x="6748560" y="3211560"/>
            <a:ext cx="522360" cy="46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9" descr=""/>
          <p:cNvPicPr/>
          <p:nvPr/>
        </p:nvPicPr>
        <p:blipFill>
          <a:blip r:embed="rId5"/>
          <a:stretch/>
        </p:blipFill>
        <p:spPr>
          <a:xfrm>
            <a:off x="6781680" y="3809880"/>
            <a:ext cx="522360" cy="4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0" descr=""/>
          <p:cNvPicPr/>
          <p:nvPr/>
        </p:nvPicPr>
        <p:blipFill>
          <a:blip r:embed="rId6"/>
          <a:stretch/>
        </p:blipFill>
        <p:spPr>
          <a:xfrm>
            <a:off x="6781680" y="4419720"/>
            <a:ext cx="522360" cy="46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1" descr=""/>
          <p:cNvPicPr/>
          <p:nvPr/>
        </p:nvPicPr>
        <p:blipFill>
          <a:blip r:embed="rId7"/>
          <a:stretch/>
        </p:blipFill>
        <p:spPr>
          <a:xfrm>
            <a:off x="6781680" y="5181480"/>
            <a:ext cx="522360" cy="466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8"/>
          <a:stretch/>
        </p:blipFill>
        <p:spPr>
          <a:xfrm>
            <a:off x="6781680" y="6095880"/>
            <a:ext cx="5223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78520" y="1812960"/>
            <a:ext cx="835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over the course of the unit provides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hat is needed to adjust my teaching methods.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assessment will help me decide whether I need to alter any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essons to fit my student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ticular needs….  The summ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st) assessment will help me to evaluate both my instruc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nd myself as a teacher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your persp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87160" y="1812960"/>
            <a:ext cx="835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ly, the assessment during my unit will show that I have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sitive impact on student learning which is required of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.  I should be able to illustrate progress toward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hieving the learning targets by comparing the result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assessment with those of the post-assessment.  These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mportant to successful completion of the MiT program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so important documentation that I will be able to pro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hiring process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your persp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n external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, as appropriat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" action="ppaction://hlinkshowjump?jump=firstslide"/>
            <a:hlinkClick r:id="rId1"/>
          </p:cNvPr>
          <p:cNvSpPr/>
          <p:nvPr/>
        </p:nvSpPr>
        <p:spPr>
          <a:xfrm>
            <a:off x="68580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1981080"/>
            <a:ext cx="7772400" cy="2057400"/>
          </a:xfrm>
          <a:prstGeom prst="rect">
            <a:avLst/>
          </a:prstGeom>
          <a:solidFill>
            <a:srgbClr val="e4b4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-Level 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22240" y="2041560"/>
            <a:ext cx="763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-Level learning targets are stated clearly and concisely and are correctly categorized (fact, concept, skill, disposition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LRs are cited when appropriate.  (Reference the EALR/GLE right below the associated targe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4382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b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-Level 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1680" y="1736640"/>
            <a:ext cx="846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know the fundamental trigonometric ratio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1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do not have to list all fa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ep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understand the applications of trig in a wide var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occupations and fields of study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5.3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be able to solve problems involving right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right triangle trigonometry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2.1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begin to enjoy the problem solving process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b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-Level 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targets clea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y the targets corr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e associated EALRs with the targets when appropriat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" action="ppaction://hlinkshowjump?jump=firstslide"/>
            <a:hlinkClick r:id="rId1"/>
          </p:cNvPr>
          <p:cNvSpPr/>
          <p:nvPr/>
        </p:nvSpPr>
        <p:spPr>
          <a:xfrm>
            <a:off x="68580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5800" y="1981080"/>
            <a:ext cx="8077320" cy="2133720"/>
          </a:xfrm>
          <a:prstGeom prst="rect">
            <a:avLst/>
          </a:prstGeom>
          <a:solidFill>
            <a:srgbClr val="b5f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16120" y="2041560"/>
            <a:ext cx="795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and contents of the pre- and post-unit 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are presented and justified.  Clear connecti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to the nature of the learning targets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a Ch.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are presented in this section or are includ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endi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4382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40160" y="1736640"/>
            <a:ext cx="8338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test and post-test for this unit are selected respon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nswer, and problem-solving (extended response) tes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assessment is very effective for fact targets (p.98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, selected response can be an effective way for stu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monstrate mastery of the knowledge required to perfor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kills of the unit (p. 14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test includes questions that are very similar to thos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st-test.  However, there are fewer questions on the post-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y are slightly simpler.  The post-test contains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in order to sample a greater portion of the studen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.  Both tests and their scoring guides can be found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ndix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and contents of the pre and post-assessment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85800" y="1981080"/>
            <a:ext cx="77724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a sufficiently thorough (yet concise!) description of the unit so as to allow an informed reader to make correct inferences about the uni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context and inte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2349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41240" y="1736640"/>
            <a:ext cx="800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chosen to apply selected response and short essay as 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instruments for several reasons which includ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ity of my learning targets are focused on the mast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facts and concepts.  Therefore I am applying 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that are designed to measure these types of targ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accurately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and contents of the pre and post-assessment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and jus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connections are made to the nature of the learning targe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" action="ppaction://hlinkshowjump?jump=firstslide"/>
            <a:hlinkClick r:id="rId1"/>
          </p:cNvPr>
          <p:cNvSpPr/>
          <p:nvPr/>
        </p:nvSpPr>
        <p:spPr>
          <a:xfrm>
            <a:off x="68580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1981080"/>
            <a:ext cx="8077320" cy="1143000"/>
          </a:xfrm>
          <a:prstGeom prst="rect">
            <a:avLst/>
          </a:prstGeom>
          <a:solidFill>
            <a:srgbClr val="fe9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816840" y="204156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ear, well reasoned description of possible sources of b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is-measurement is offe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349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3320" y="1654200"/>
            <a:ext cx="83768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any assessment instrument, there are biase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tions that must be considered as possible sourc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easurement.  Here are some that will be important in my un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per Method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the creator of the assessment instruments, 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o ask myself if I properly matched the method of assess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my learning target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larity of Test Question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The items on the assessments m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be written clearly or well focused, thus leading the students 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swer incorrectly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est Form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 Both tests use standard format items (multiple choic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rt answer, short essay).  Students who excel at other type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ms may not do as well as they coul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tc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ources of mis-measurement are identified and explain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74400" y="1654200"/>
            <a:ext cx="8306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iggest concern with using these 2 tools focuses on th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telligence which they favor.  Students who are better verba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guistic learners may have an advantage in communicating 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dia.  Other students with other types of intelligences m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 able to demonstrate their understanding as we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concern lies in my selection of the selected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.  How do I know that the questions 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 chosen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ve of the body of knowledge I have presented?  P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questions may not appropriately emphasize the fac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s, and skill targets I have set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ources of mis-measurement are identified and explain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>
            <a:hlinkClick r:id="" action="ppaction://hlinkshowjump?jump=firstslide"/>
            <a:hlinkClick r:id="rId1"/>
          </p:cNvPr>
          <p:cNvSpPr/>
          <p:nvPr/>
        </p:nvSpPr>
        <p:spPr>
          <a:xfrm>
            <a:off x="838080" y="571500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5" h="21600">
                <a:moveTo>
                  <a:pt x="13117" y="3837"/>
                </a:moveTo>
                <a:lnTo>
                  <a:pt x="15694" y="6448"/>
                </a:lnTo>
                <a:lnTo>
                  <a:pt x="15694" y="4707"/>
                </a:lnTo>
                <a:lnTo>
                  <a:pt x="17469" y="4707"/>
                </a:lnTo>
                <a:lnTo>
                  <a:pt x="17469" y="8224"/>
                </a:lnTo>
                <a:lnTo>
                  <a:pt x="20080" y="10800"/>
                </a:lnTo>
                <a:lnTo>
                  <a:pt x="18427" y="10800"/>
                </a:lnTo>
                <a:lnTo>
                  <a:pt x="18427" y="17989"/>
                </a:lnTo>
                <a:lnTo>
                  <a:pt x="7808" y="17989"/>
                </a:lnTo>
                <a:lnTo>
                  <a:pt x="7808" y="10800"/>
                </a:lnTo>
                <a:lnTo>
                  <a:pt x="6154" y="10800"/>
                </a:lnTo>
                <a:close/>
              </a:path>
              <a:path fill="darkenLess" w="26235" h="21600">
                <a:moveTo>
                  <a:pt x="15694" y="6448"/>
                </a:moveTo>
                <a:lnTo>
                  <a:pt x="15694" y="4707"/>
                </a:lnTo>
                <a:lnTo>
                  <a:pt x="17469" y="4707"/>
                </a:lnTo>
                <a:lnTo>
                  <a:pt x="17469" y="8224"/>
                </a:lnTo>
                <a:close/>
              </a:path>
              <a:path fill="darkenLess" w="26235" h="21600">
                <a:moveTo>
                  <a:pt x="12195" y="14299"/>
                </a:moveTo>
                <a:lnTo>
                  <a:pt x="14040" y="14299"/>
                </a:lnTo>
                <a:lnTo>
                  <a:pt x="14040" y="17989"/>
                </a:lnTo>
                <a:lnTo>
                  <a:pt x="18427" y="17989"/>
                </a:lnTo>
                <a:lnTo>
                  <a:pt x="18427" y="10800"/>
                </a:lnTo>
                <a:lnTo>
                  <a:pt x="7808" y="10800"/>
                </a:lnTo>
                <a:lnTo>
                  <a:pt x="7808" y="17989"/>
                </a:lnTo>
                <a:lnTo>
                  <a:pt x="1219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64200" y="1812960"/>
            <a:ext cx="797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 is a 9th grade World Geography course.  The Ch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comes at the end of the East Asia segment and is the l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unit the students complete before the end of school. 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will run approximately four weeks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64560" y="1812960"/>
            <a:ext cx="85230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ultimate goal for the unit is to bring to a close the lit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of the class by closely examining the notion of th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how it has changed throughout the eras.  I w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as the American Dream during Willy Loman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 our notion of the American Dream has endurd through the yea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spects have changed over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have they chan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go wrong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nt students to be able to compare their feelings to tho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in other historical periods we have been reading about…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nt (guiding objectiv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>
            <a:hlinkClick r:id="" action="ppaction://hlinkshowjump?jump=firstslide"/>
            <a:hlinkClick r:id="rId1"/>
          </p:cNvPr>
          <p:cNvSpPr/>
          <p:nvPr/>
        </p:nvSpPr>
        <p:spPr>
          <a:xfrm>
            <a:off x="68580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solidFill>
            <a:srgbClr val="f6f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e assessment is clearly presented and discussed in light of the information presented in Chapter 2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24638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67080" y="1812960"/>
            <a:ext cx="825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y students, the assessments are their opport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how me what they have learned and where they need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unit.  The pre-assessment gives them a chanc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 their prior knowledge while the post-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them summative information which allows them to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own success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k Roddy</cp:lastModifiedBy>
  <dcterms:modified xsi:type="dcterms:W3CDTF">2011-10-19T04:23:00Z</dcterms:modified>
  <cp:revision>6</cp:revision>
  <dc:subject/>
  <dc:title>The pre- post assessment</dc:title>
</cp:coreProperties>
</file>